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gif" ContentType="image/gif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B6C-39E8-4722-8235-642E410C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2D0-BB35-4B90-88F4-F4B89BD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F0E-13DD-4FE0-8ADE-40726DAD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5F5-59D0-4B5D-87F2-8CD353C8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C0B3-E622-4F91-B7C1-515CB681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BF8C-3322-4CDE-AD93-79243D13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6CA2-6155-4CBD-B49B-6DFB31CA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CC0C-F51D-4559-AEF2-C346F565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6734-1736-48A7-AE68-C8F10AFB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416-77CF-4643-A0E2-95CCB89F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E1C2-B168-4BB3-9C30-913D9609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4EC-D123-47F6-89DC-0C925619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C2C5-C181-4F08-BBD4-58BDDC9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9ACD-A5EE-4791-A4C0-FE61013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8D8A-FD91-4436-9ED1-4F5C6D42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A7E1-E944-41CD-A629-7A3B0606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3273-622C-4AAF-BE9A-AC672CEC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5287-9CD5-4985-827B-D78FB35D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EA9B-820E-4559-9CB9-26DC515F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3DF7-2DD7-4D4C-8320-A89BABCF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0147-CC3E-418D-9F7E-107DA5B1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AE83-2269-430D-B8C6-FDA5B711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704-0261-446C-BB7D-EA2A8D45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7C52-46A1-478A-90D8-8560175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DA62-F93D-4CDD-B6BA-66BEF55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C759-CE5E-4A68-92F7-B1C98AD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22E9-FAC2-47FD-A8A6-C3C7C4AF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087C-9703-4090-A0A2-4AADFA4C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8A87-928B-40BE-A454-B1502B9E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F8D5-DFEE-47E9-806C-06DCFA43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D28F-702E-4727-8621-69E615A4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0829-3599-42E2-9D89-A1B06D6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E0E9-BAFE-4219-ACE3-B7D7BE9D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8DB-AF05-4E39-B659-1A145101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3F42-FC46-4647-BD4E-AA0DFD04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3242D-3465-4324-9AA3-341C07D1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FFEFE-54D6-41C3-8F2B-DAF92FB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B0AD4-AA03-434E-BF65-146A6C5E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7C5C-11A9-4E56-945C-FED9D75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8D00-FBA8-4CE2-AC91-C860063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52D5-D240-4C5A-A3C4-58EDF17C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61AFA-FD50-412B-B55A-133D1A73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561A-ADCD-4741-825D-91664B08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3DFE0-1348-4087-B1F9-DB51D7C4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25F-47E1-4893-9DBE-03F8B146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7FF99-B3FB-4A4F-9AC7-2A1559A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A79E-B860-4446-9A30-7C504E27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BC676-2831-40C1-BB74-BF1D9F9C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B6E8B-6AA8-4FE0-9E25-014EC25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332AE-A9D7-453F-901C-3204FA67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06984-50CD-4C6A-ADAC-00C6E359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255C-86A4-462C-889B-AFE9885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F5F8-7199-4BFC-8162-09C9849D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B4CF-43AA-4043-904C-87A8985B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379B-AD35-4C1B-8EBE-4108B4BE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43C-8CF6-4847-B6DE-47638DF7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2068-6012-4B01-87C0-F0CF4DAF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6C2-8919-4945-926A-543322B6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D52-21FE-4A99-949D-B5E379C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65D-90D1-42A3-A964-61B628AA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400" t="0" r="0" b="11855"/>
          <a:stretch/>
        </p:blipFill>
        <p:spPr>
          <a:xfrm>
            <a:off x="0" y="720720"/>
            <a:ext cx="9142560" cy="614988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4EC3-F15F-40BE-9E2D-CC78AB155EBB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1346-8659-4065-A7F7-47B91630E18D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rcRect l="400" t="0" r="0" b="11855"/>
          <a:stretch/>
        </p:blipFill>
        <p:spPr>
          <a:xfrm>
            <a:off x="0" y="720720"/>
            <a:ext cx="9142560" cy="614988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45" name="图片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F0B-1720-4C73-B778-24B88CD310DA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2976-0BDF-4015-AAB7-4B7E15BB2307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D40C-AE52-4B28-970D-1CCD68351103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897A-49FA-4104-AB4C-5CF1F3BABC8C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E15-D874-4E2D-A88C-DFD638B66856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F0EF-64B2-4115-BFF5-9D6D9B4AAD36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DB06-95E7-429C-BD79-0B1A5935FE05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D138-B973-42C1-9428-0EF2C1683ABA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Lesson25</a:t>
            </a:r>
            <a:r>
              <a:rPr b="1" lang="zh-CN" sz="4400" spc="-1" strike="noStrike">
                <a:solidFill>
                  <a:srgbClr val="7b5a17"/>
                </a:solidFill>
                <a:latin typeface="Arial"/>
                <a:ea typeface="宋体"/>
              </a:rPr>
              <a:t>.  </a:t>
            </a:r>
            <a:br>
              <a:rPr sz="4400"/>
            </a:br>
            <a:r>
              <a:rPr b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A  Phone  Friend</a:t>
            </a:r>
            <a:r>
              <a:rPr b="1" lang="zh-CN" sz="4400" spc="-1" strike="noStrike">
                <a:solidFill>
                  <a:srgbClr val="7b5a17"/>
                </a:solidFill>
                <a:latin typeface="Arial"/>
                <a:ea typeface="宋体"/>
              </a:rPr>
              <a:t>	</a:t>
            </a:r>
            <a:endParaRPr b="1" lang="en-US" sz="4400" spc="-1" strike="noStrike">
              <a:solidFill>
                <a:srgbClr val="5d5f1f"/>
              </a:solidFill>
              <a:latin typeface="Arial"/>
            </a:endParaRPr>
          </a:p>
        </p:txBody>
      </p:sp>
      <p:pic>
        <p:nvPicPr>
          <p:cNvPr id="212" name="副标题 3074" descr=""/>
          <p:cNvPicPr/>
          <p:nvPr/>
        </p:nvPicPr>
        <p:blipFill>
          <a:blip r:embed="rId1"/>
          <a:stretch/>
        </p:blipFill>
        <p:spPr>
          <a:xfrm>
            <a:off x="1330200" y="3860640"/>
            <a:ext cx="6400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93320" y="320760"/>
            <a:ext cx="87613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(2)They are from       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6000" spc="-1" strike="noStrike" u="sng">
                <a:solidFill>
                  <a:srgbClr val="002060"/>
                </a:solidFill>
                <a:uFillTx/>
                <a:latin typeface="Arial"/>
              </a:rPr>
              <a:t>                 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Arial"/>
              </a:rPr>
              <a:t>T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heyare</a:t>
            </a:r>
            <a:r>
              <a:rPr b="1" lang="zh-CN" sz="6000" spc="-1" strike="noStrike" u="sng">
                <a:solidFill>
                  <a:srgbClr val="002060"/>
                </a:solidFill>
                <a:uFillTx/>
                <a:latin typeface="Arial"/>
              </a:rPr>
              <a:t>                 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43" name="文本框 5"/>
          <p:cNvSpPr/>
          <p:nvPr/>
        </p:nvSpPr>
        <p:spPr>
          <a:xfrm>
            <a:off x="2699280" y="1123920"/>
            <a:ext cx="35424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Arial"/>
                <a:ea typeface="微软雅黑"/>
              </a:rPr>
              <a:t>Canada 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4" name="文本框 6"/>
          <p:cNvSpPr/>
          <p:nvPr/>
        </p:nvSpPr>
        <p:spPr>
          <a:xfrm>
            <a:off x="4212360" y="2421000"/>
            <a:ext cx="4182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Canadians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45" name="图片 7" descr="u=3063952189,419517921&amp;fm=21&amp;gp=0[1]"/>
          <p:cNvPicPr/>
          <p:nvPr/>
        </p:nvPicPr>
        <p:blipFill>
          <a:blip r:embed="rId4"/>
          <a:stretch/>
        </p:blipFill>
        <p:spPr>
          <a:xfrm>
            <a:off x="1257480" y="3778200"/>
            <a:ext cx="69976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0360" y="115560"/>
            <a:ext cx="66772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5d5f1f"/>
                </a:solidFill>
                <a:latin typeface="Arial"/>
              </a:rPr>
              <a:t>思考</a:t>
            </a:r>
            <a:r>
              <a:rPr b="1" lang="zh-CN" sz="2900" spc="-1" strike="noStrike">
                <a:solidFill>
                  <a:srgbClr val="5d5f1f"/>
                </a:solidFill>
                <a:latin typeface="Arial"/>
              </a:rPr>
              <a:t>：</a:t>
            </a:r>
            <a:endParaRPr b="1" lang="en-US" sz="29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6960" y="691920"/>
            <a:ext cx="878508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分析例句，在例句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1)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中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Canadian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为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词，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意为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</a:rPr>
              <a:t>：             </a:t>
            </a:r>
            <a:r>
              <a:rPr b="1" lang="en-US" sz="5400" spc="-1" strike="noStrike" u="sng">
                <a:solidFill>
                  <a:srgbClr val="002060"/>
                </a:solidFill>
                <a:uFillTx/>
                <a:latin typeface="Arial"/>
              </a:rPr>
              <a:t>,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在例句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中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Canadian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为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词，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意为：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</a:rPr>
              <a:t>              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0" lang="zh-CN" sz="1800" spc="-1" strike="noStrike">
                <a:solidFill>
                  <a:srgbClr val="8c8e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48" name="文本框 5"/>
          <p:cNvSpPr/>
          <p:nvPr/>
        </p:nvSpPr>
        <p:spPr>
          <a:xfrm>
            <a:off x="5470200" y="1413000"/>
            <a:ext cx="1049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形容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9" name="文本框 6"/>
          <p:cNvSpPr/>
          <p:nvPr/>
        </p:nvSpPr>
        <p:spPr>
          <a:xfrm>
            <a:off x="3193200" y="2349360"/>
            <a:ext cx="178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加拿大的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0" name="文本框 7"/>
          <p:cNvSpPr/>
          <p:nvPr/>
        </p:nvSpPr>
        <p:spPr>
          <a:xfrm>
            <a:off x="6359040" y="3213000"/>
            <a:ext cx="7704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名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1" name="文本框 8"/>
          <p:cNvSpPr/>
          <p:nvPr/>
        </p:nvSpPr>
        <p:spPr>
          <a:xfrm>
            <a:off x="3494520" y="4221000"/>
            <a:ext cx="21787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加拿大人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微软雅黑"/>
              </a:rPr>
              <a:t>   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0000" y="117360"/>
            <a:ext cx="6678720" cy="11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探究点二</a:t>
            </a:r>
            <a:r>
              <a:rPr b="1" lang="zh-CN" sz="4000" spc="-1" strike="noStrike">
                <a:solidFill>
                  <a:srgbClr val="5d5f1f"/>
                </a:solidFill>
                <a:latin typeface="Arial"/>
              </a:rPr>
              <a:t>：重难点句子</a:t>
            </a:r>
            <a:br>
              <a:rPr sz="4000"/>
            </a:br>
            <a:r>
              <a:rPr b="1" lang="zh-CN" sz="4000" spc="-1" strike="noStrike">
                <a:solidFill>
                  <a:srgbClr val="5d5f1f"/>
                </a:solidFill>
                <a:latin typeface="Arial"/>
              </a:rPr>
              <a:t>                   和语法探究</a:t>
            </a:r>
            <a:endParaRPr b="1" lang="en-US" sz="40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2840" y="1279080"/>
            <a:ext cx="8882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1.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54" name="椭圆形标注 5"/>
          <p:cNvSpPr/>
          <p:nvPr/>
        </p:nvSpPr>
        <p:spPr>
          <a:xfrm>
            <a:off x="1116000" y="1555920"/>
            <a:ext cx="7791480" cy="2246040"/>
          </a:xfrm>
          <a:prstGeom prst="wedgeEllipseCallout">
            <a:avLst>
              <a:gd name="adj1" fmla="val -27055"/>
              <a:gd name="adj2" fmla="val 74407"/>
            </a:avLst>
          </a:pr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Can I speak to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Jenny, please?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55" name="图片 6" descr="office6\wpsassist\cache\A000220150320H37PPIC"/>
          <p:cNvPicPr/>
          <p:nvPr/>
        </p:nvPicPr>
        <p:blipFill>
          <a:blip r:embed="rId2"/>
          <a:stretch/>
        </p:blipFill>
        <p:spPr>
          <a:xfrm>
            <a:off x="1116000" y="3860640"/>
            <a:ext cx="31291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5320" y="272880"/>
            <a:ext cx="897588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2. This is Jenny speaking.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思考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分析例句，句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(1)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和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(2)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是 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的常用语，当问对方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“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你是谁？”时一般用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Arial"/>
              </a:rPr>
              <a:t>                             </a:t>
            </a:r>
            <a:r>
              <a:rPr b="1" lang="en-US" sz="4800" spc="-1" strike="noStrike" u="sng">
                <a:solidFill>
                  <a:srgbClr val="002060"/>
                </a:solidFill>
                <a:uFillTx/>
                <a:latin typeface="Arial"/>
              </a:rPr>
              <a:t>?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                   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57" name="文本框 5"/>
          <p:cNvSpPr/>
          <p:nvPr/>
        </p:nvSpPr>
        <p:spPr>
          <a:xfrm>
            <a:off x="1528920" y="3284640"/>
            <a:ext cx="1331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打电话 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8" name="文本框 6"/>
          <p:cNvSpPr/>
          <p:nvPr/>
        </p:nvSpPr>
        <p:spPr>
          <a:xfrm>
            <a:off x="1908360" y="5084640"/>
            <a:ext cx="41173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Who is that 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678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探究点三</a:t>
            </a:r>
            <a:r>
              <a:rPr b="1" lang="zh-CN" sz="4000" spc="-1" strike="noStrike">
                <a:solidFill>
                  <a:srgbClr val="5d5f1f"/>
                </a:solidFill>
                <a:latin typeface="Arial"/>
              </a:rPr>
              <a:t>：反身代词的用法</a:t>
            </a:r>
            <a:endParaRPr b="1" lang="en-US" sz="40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2840" y="822240"/>
            <a:ext cx="89298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反身代词是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oneself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根据所指词的人称、性别、单复数等的变化可以有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myself, himself, herself, yourself, itself, ourselves, yourselves, themselves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等形式。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09520" y="190080"/>
            <a:ext cx="8631360" cy="64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Take good care of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7030a0"/>
                </a:solidFill>
                <a:latin typeface="Arial"/>
              </a:rPr>
              <a:t>yourself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62" name="圆角矩形标注 1"/>
          <p:cNvSpPr/>
          <p:nvPr/>
        </p:nvSpPr>
        <p:spPr>
          <a:xfrm>
            <a:off x="1116000" y="2421000"/>
            <a:ext cx="7284960" cy="1284120"/>
          </a:xfrm>
          <a:prstGeom prst="wedgeRoundRectCallout">
            <a:avLst>
              <a:gd name="adj1" fmla="val -4"/>
              <a:gd name="adj2" fmla="val 74824"/>
              <a:gd name="adj3" fmla="val 16667"/>
            </a:avLst>
          </a:pr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d3f41"/>
                </a:solidFill>
                <a:latin typeface="Arial"/>
              </a:rPr>
              <a:t>照顾好自己。</a:t>
            </a:r>
            <a:endParaRPr b="0" lang="en-US" sz="60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63" name="图片 2" descr="office6\wpsassist\cache\A000220150322J61PPIC"/>
          <p:cNvPicPr/>
          <p:nvPr/>
        </p:nvPicPr>
        <p:blipFill>
          <a:blip r:embed="rId4"/>
          <a:stretch/>
        </p:blipFill>
        <p:spPr>
          <a:xfrm>
            <a:off x="3635280" y="3906720"/>
            <a:ext cx="212724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04840" y="269640"/>
            <a:ext cx="8750160" cy="65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我每天独自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练习说英语。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65" name="云形标注 6"/>
          <p:cNvSpPr/>
          <p:nvPr/>
        </p:nvSpPr>
        <p:spPr>
          <a:xfrm>
            <a:off x="266760" y="88920"/>
            <a:ext cx="8691480" cy="2944800"/>
          </a:xfrm>
          <a:prstGeom prst="cloudCallout">
            <a:avLst>
              <a:gd name="adj1" fmla="val 19106"/>
              <a:gd name="adj2" fmla="val 74037"/>
            </a:avLst>
          </a:pr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I practice speaking</a:t>
            </a:r>
            <a:endParaRPr b="0" lang="en-US" sz="4800" spc="-1" strike="noStrike">
              <a:solidFill>
                <a:srgbClr val="3d3f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English by </a:t>
            </a:r>
            <a:r>
              <a:rPr b="0" lang="zh-CN" sz="4800" spc="-1" strike="noStrike">
                <a:solidFill>
                  <a:srgbClr val="7030a0"/>
                </a:solidFill>
                <a:latin typeface="Arial"/>
              </a:rPr>
              <a:t>myself</a:t>
            </a: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d3f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every day. </a:t>
            </a:r>
            <a:endParaRPr b="0" lang="en-US" sz="48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66" name="图片 7" descr="u=3713704466,2093194096&amp;fm=21&amp;gp=0[1]"/>
          <p:cNvPicPr/>
          <p:nvPr/>
        </p:nvPicPr>
        <p:blipFill>
          <a:blip r:embed="rId7"/>
          <a:stretch/>
        </p:blipFill>
        <p:spPr>
          <a:xfrm>
            <a:off x="5254560" y="3895560"/>
            <a:ext cx="34736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58760" y="260280"/>
            <a:ext cx="883296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He hurt </a:t>
            </a:r>
            <a:r>
              <a:rPr b="1" lang="zh-CN" sz="6000" spc="-1" strike="noStrike">
                <a:solidFill>
                  <a:srgbClr val="7030a0"/>
                </a:solidFill>
                <a:latin typeface="Arial"/>
              </a:rPr>
              <a:t>himself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by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falling off the </a:t>
            </a:r>
            <a:r>
              <a:rPr b="1" lang="en-US" sz="6000" spc="-1" strike="noStrike">
                <a:solidFill>
                  <a:srgbClr val="002060"/>
                </a:solidFill>
                <a:latin typeface="Arial"/>
              </a:rPr>
              <a:t>bike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他从自行车上摔下来伤了自己。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pic>
        <p:nvPicPr>
          <p:cNvPr id="268" name="图片 2" descr="u=51184116,4183570441&amp;fm=21&amp;gp=0[1]"/>
          <p:cNvPicPr/>
          <p:nvPr/>
        </p:nvPicPr>
        <p:blipFill>
          <a:blip r:embed="rId4"/>
          <a:stretch/>
        </p:blipFill>
        <p:spPr>
          <a:xfrm>
            <a:off x="2781360" y="3500280"/>
            <a:ext cx="50623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28600" y="281160"/>
            <a:ext cx="8740800" cy="64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hey enjoyed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themselves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in the park.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他们在公园过得很快乐。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pic>
        <p:nvPicPr>
          <p:cNvPr id="270" name="图片 1" descr="u=3019104634,539473781&amp;fm=21&amp;gp=0[1]"/>
          <p:cNvPicPr/>
          <p:nvPr/>
        </p:nvPicPr>
        <p:blipFill>
          <a:blip r:embed="rId4"/>
          <a:stretch/>
        </p:blipFill>
        <p:spPr>
          <a:xfrm>
            <a:off x="611280" y="3860640"/>
            <a:ext cx="3968640" cy="251784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2" descr="u=1835178015,3477476220&amp;fm=21&amp;gp=0[1]"/>
          <p:cNvPicPr/>
          <p:nvPr/>
        </p:nvPicPr>
        <p:blipFill>
          <a:blip r:embed="rId5"/>
          <a:stretch/>
        </p:blipFill>
        <p:spPr>
          <a:xfrm>
            <a:off x="4643280" y="3933720"/>
            <a:ext cx="40179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6000" y="471600"/>
            <a:ext cx="905364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</a:rPr>
              <a:t>注意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当宾语和主语一致时，宾语必须用相应的反身代词。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he             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you           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they          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73" name="右箭头 1"/>
          <p:cNvSpPr/>
          <p:nvPr/>
        </p:nvSpPr>
        <p:spPr>
          <a:xfrm>
            <a:off x="2073240" y="3157560"/>
            <a:ext cx="1776600" cy="10526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4" name="右箭头 2"/>
          <p:cNvSpPr/>
          <p:nvPr/>
        </p:nvSpPr>
        <p:spPr>
          <a:xfrm>
            <a:off x="2139840" y="4186080"/>
            <a:ext cx="1727280" cy="10256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5" name="右箭头 4"/>
          <p:cNvSpPr/>
          <p:nvPr/>
        </p:nvSpPr>
        <p:spPr>
          <a:xfrm>
            <a:off x="2136600" y="5243400"/>
            <a:ext cx="1654200" cy="98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6" name="文本框 5"/>
          <p:cNvSpPr/>
          <p:nvPr/>
        </p:nvSpPr>
        <p:spPr>
          <a:xfrm>
            <a:off x="4141800" y="2924280"/>
            <a:ext cx="25812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微软雅黑"/>
              </a:rPr>
              <a:t>himself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7" name="文本框 6"/>
          <p:cNvSpPr/>
          <p:nvPr/>
        </p:nvSpPr>
        <p:spPr>
          <a:xfrm>
            <a:off x="4140360" y="3860640"/>
            <a:ext cx="38750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微软雅黑"/>
              </a:rPr>
              <a:t>yourself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8" name="文本框 7"/>
          <p:cNvSpPr/>
          <p:nvPr/>
        </p:nvSpPr>
        <p:spPr>
          <a:xfrm>
            <a:off x="4140360" y="4940280"/>
            <a:ext cx="46497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微软雅黑"/>
              </a:rPr>
              <a:t>themselves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43920"/>
            <a:ext cx="6678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5f1f"/>
                </a:solidFill>
                <a:latin typeface="Arial"/>
              </a:rPr>
              <a:t>学习目标</a:t>
            </a:r>
            <a:endParaRPr b="1" lang="en-US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8760" y="750960"/>
            <a:ext cx="885816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知识与能力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： 掌握本课的新</a:t>
            </a:r>
            <a:endParaRPr b="0" lang="en-US" sz="4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单词和短语。 </a:t>
            </a:r>
            <a:endParaRPr b="0" lang="en-US" sz="4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重点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：掌握词汇：</a:t>
            </a:r>
            <a:endParaRPr b="0" lang="en-US" sz="4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foreign, could, understand, </a:t>
            </a:r>
            <a:endParaRPr b="0" lang="en-US" sz="4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cartoon, Canadian</a:t>
            </a:r>
            <a:endParaRPr b="0" lang="en-US" sz="4400" spc="-1" strike="noStrike">
              <a:solidFill>
                <a:srgbClr val="8c8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678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d5f1f"/>
                </a:solidFill>
                <a:latin typeface="Arial"/>
              </a:rPr>
              <a:t>打电话的日常用语</a:t>
            </a:r>
            <a:r>
              <a:rPr b="1" lang="zh-CN" sz="2900" spc="-1" strike="noStrike">
                <a:solidFill>
                  <a:srgbClr val="5d5f1f"/>
                </a:solidFill>
                <a:latin typeface="Arial"/>
              </a:rPr>
              <a:t>：</a:t>
            </a:r>
            <a:endParaRPr b="1" lang="en-US" sz="29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1120" y="1083960"/>
            <a:ext cx="881568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Can/May I speak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to … </a:t>
            </a:r>
            <a:r>
              <a:rPr b="1" lang="en-US" sz="60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please? 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Is that …speaking?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This is …speaking. 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39320" y="221760"/>
            <a:ext cx="8937720" cy="62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Who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 that ?/ Who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hat speaking?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Hold on (for a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moment),please.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He/she isn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 here at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he moment.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pic>
        <p:nvPicPr>
          <p:cNvPr id="282" name="图片 1" descr="office6\wpsassist\cache\A000220150321F48PPIC"/>
          <p:cNvPicPr/>
          <p:nvPr/>
        </p:nvPicPr>
        <p:blipFill>
          <a:blip r:embed="rId7"/>
          <a:stretch/>
        </p:blipFill>
        <p:spPr>
          <a:xfrm>
            <a:off x="7883640" y="1413000"/>
            <a:ext cx="9921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12400" y="263160"/>
            <a:ext cx="872964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Arial"/>
              </a:rPr>
              <a:t>Sorry, </a:t>
            </a:r>
            <a:r>
              <a:rPr b="1" lang="en-US" sz="6600" spc="-1" strike="noStrike">
                <a:solidFill>
                  <a:srgbClr val="002060"/>
                </a:solidFill>
                <a:latin typeface="Arial"/>
              </a:rPr>
              <a:t>h</a:t>
            </a:r>
            <a:r>
              <a:rPr b="1" lang="zh-CN" sz="6600" spc="-1" strike="noStrike">
                <a:solidFill>
                  <a:srgbClr val="002060"/>
                </a:solidFill>
                <a:latin typeface="Arial"/>
              </a:rPr>
              <a:t>e/she isn</a:t>
            </a:r>
            <a:r>
              <a:rPr b="1" lang="en-US" sz="66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zh-CN" sz="66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2060"/>
                </a:solidFill>
                <a:latin typeface="Arial"/>
              </a:rPr>
              <a:t>in (at home).</a:t>
            </a:r>
            <a:endParaRPr b="0" lang="en-US" sz="66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2060"/>
                </a:solidFill>
                <a:latin typeface="Arial"/>
              </a:rPr>
              <a:t>Can I take a </a:t>
            </a:r>
            <a:endParaRPr b="0" lang="en-US" sz="66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2060"/>
                </a:solidFill>
                <a:latin typeface="Arial"/>
              </a:rPr>
              <a:t>message for you?</a:t>
            </a:r>
            <a:endParaRPr b="0" lang="en-US" sz="6600" spc="-1" strike="noStrike">
              <a:solidFill>
                <a:srgbClr val="8c8e2e"/>
              </a:solidFill>
              <a:latin typeface="Arial"/>
            </a:endParaRPr>
          </a:p>
        </p:txBody>
      </p:sp>
      <p:pic>
        <p:nvPicPr>
          <p:cNvPr id="284" name="图片 1" descr="office6\wpsassist\cache\A000220150320E33PPIC"/>
          <p:cNvPicPr/>
          <p:nvPr/>
        </p:nvPicPr>
        <p:blipFill>
          <a:blip r:embed="rId5"/>
          <a:stretch/>
        </p:blipFill>
        <p:spPr>
          <a:xfrm>
            <a:off x="6804000" y="1339920"/>
            <a:ext cx="20289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6787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d5f1f"/>
                </a:solidFill>
                <a:latin typeface="Arial"/>
              </a:rPr>
              <a:t>课堂检测</a:t>
            </a:r>
            <a:endParaRPr b="1" lang="en-US" sz="4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13840" y="759960"/>
            <a:ext cx="8858520" cy="61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（    ）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1. Tom runs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_______than Dave.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A. slowly  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B. more slowly  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C. slow  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D.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lower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87" name="文本框 1"/>
          <p:cNvSpPr/>
          <p:nvPr/>
        </p:nvSpPr>
        <p:spPr>
          <a:xfrm>
            <a:off x="972000" y="620640"/>
            <a:ext cx="1107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B  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88" name="图片 2" descr="u=1032768888,2909804904&amp;fm=21&amp;gp=0[1]"/>
          <p:cNvPicPr/>
          <p:nvPr/>
        </p:nvPicPr>
        <p:blipFill>
          <a:blip r:embed="rId1"/>
          <a:stretch/>
        </p:blipFill>
        <p:spPr>
          <a:xfrm>
            <a:off x="5364000" y="3068640"/>
            <a:ext cx="32785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98000" y="409320"/>
            <a:ext cx="8742600" cy="62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（     ）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2. I ofte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_______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elephone calls to my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friend on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aturday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evening.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make     B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send   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use        D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play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90" name="文本框 1"/>
          <p:cNvSpPr/>
          <p:nvPr/>
        </p:nvSpPr>
        <p:spPr>
          <a:xfrm>
            <a:off x="970920" y="44280"/>
            <a:ext cx="98712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Arial"/>
                <a:ea typeface="微软雅黑"/>
              </a:rPr>
              <a:t>A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  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3960" y="279000"/>
            <a:ext cx="8885160" cy="62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7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（    ）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3. —Is that Jim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47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speaking?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47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            —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_______.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47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A.Yes, I am.    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47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B. No, I</a:t>
            </a:r>
            <a:r>
              <a:rPr b="1" lang="en-US" sz="60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m not.   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47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C. No, that isn</a:t>
            </a:r>
            <a:r>
              <a:rPr b="1" lang="en-US" sz="60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t    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47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D. Yes, this is Jim.</a:t>
            </a:r>
            <a:endParaRPr b="0" lang="en-US" sz="6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92" name="文本框 1"/>
          <p:cNvSpPr/>
          <p:nvPr/>
        </p:nvSpPr>
        <p:spPr>
          <a:xfrm>
            <a:off x="1043640" y="-100080"/>
            <a:ext cx="1204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D  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18800" y="189000"/>
            <a:ext cx="900108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576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4. He comes f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ro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m___ 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576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So he is an ____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576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A.  America,American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576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B.  America,America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576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C.  American,American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576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D.  America,America. 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94" name="文本框 1"/>
          <p:cNvSpPr/>
          <p:nvPr/>
        </p:nvSpPr>
        <p:spPr>
          <a:xfrm>
            <a:off x="596520" y="-100080"/>
            <a:ext cx="13024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Arial"/>
                <a:ea typeface="微软雅黑"/>
              </a:rPr>
              <a:t>A  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41120" y="365040"/>
            <a:ext cx="8902800" cy="635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（    ）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5.Boys and girls,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did you enjoy ______ in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he park yesterday?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A. You          B. yours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C. Yourself   D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yourselves 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96" name="文本框 1"/>
          <p:cNvSpPr/>
          <p:nvPr/>
        </p:nvSpPr>
        <p:spPr>
          <a:xfrm>
            <a:off x="972000" y="189000"/>
            <a:ext cx="9169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D 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1" descr="fff"/>
          <p:cNvPicPr/>
          <p:nvPr/>
        </p:nvPicPr>
        <p:blipFill>
          <a:blip r:embed="rId1"/>
          <a:stretch/>
        </p:blipFill>
        <p:spPr>
          <a:xfrm>
            <a:off x="1440" y="1440"/>
            <a:ext cx="9133200" cy="69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2160" y="258840"/>
            <a:ext cx="89060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12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Arial"/>
              </a:rPr>
              <a:t>短语及句型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12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have a good talk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12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have an idea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12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Arial"/>
              </a:rPr>
              <a:t>难点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12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如何用英语给别人打电话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0360" y="43920"/>
            <a:ext cx="66772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5f1f"/>
                </a:solidFill>
                <a:latin typeface="Arial"/>
              </a:rPr>
              <a:t>短语</a:t>
            </a:r>
            <a:endParaRPr b="1" lang="en-US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36440" y="1002960"/>
            <a:ext cx="887112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(1) a foreign friend               </a:t>
            </a:r>
            <a:endParaRPr b="0" lang="en-US" sz="4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(2) no problem               </a:t>
            </a:r>
            <a:endParaRPr b="0" lang="en-US" sz="4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(3) speak more loudly                     </a:t>
            </a:r>
            <a:endParaRPr b="0" lang="en-US" sz="40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(4) by myself </a:t>
            </a:r>
            <a:endParaRPr b="0" lang="en-US" sz="40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18" name="文本框 6"/>
          <p:cNvSpPr/>
          <p:nvPr/>
        </p:nvSpPr>
        <p:spPr>
          <a:xfrm>
            <a:off x="6650280" y="1052640"/>
            <a:ext cx="942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一位外国朋友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9" name="文本框 7"/>
          <p:cNvSpPr/>
          <p:nvPr/>
        </p:nvSpPr>
        <p:spPr>
          <a:xfrm>
            <a:off x="4948920" y="2133720"/>
            <a:ext cx="1095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没问题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0" name="文本框 8"/>
          <p:cNvSpPr/>
          <p:nvPr/>
        </p:nvSpPr>
        <p:spPr>
          <a:xfrm>
            <a:off x="6605640" y="3213000"/>
            <a:ext cx="1095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大声说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1" name="文本框 9"/>
          <p:cNvSpPr/>
          <p:nvPr/>
        </p:nvSpPr>
        <p:spPr>
          <a:xfrm>
            <a:off x="4491360" y="4292640"/>
            <a:ext cx="88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独自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240" y="342720"/>
            <a:ext cx="9037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(5) a Canadian friend                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(6) listen to English music                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(7) have a good talk    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23" name="文本框 5"/>
          <p:cNvSpPr/>
          <p:nvPr/>
        </p:nvSpPr>
        <p:spPr>
          <a:xfrm>
            <a:off x="3945240" y="981000"/>
            <a:ext cx="7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一位加拿大朋友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4" name="文本框 6"/>
          <p:cNvSpPr/>
          <p:nvPr/>
        </p:nvSpPr>
        <p:spPr>
          <a:xfrm>
            <a:off x="3332160" y="2925720"/>
            <a:ext cx="18572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听英语音乐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5" name="文本框 7"/>
          <p:cNvSpPr/>
          <p:nvPr/>
        </p:nvSpPr>
        <p:spPr>
          <a:xfrm>
            <a:off x="3364200" y="4797360"/>
            <a:ext cx="1521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谈得很好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676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5f1f"/>
                </a:solidFill>
                <a:latin typeface="Arial"/>
              </a:rPr>
              <a:t>探究案</a:t>
            </a:r>
            <a:endParaRPr b="1" lang="en-US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84320" y="907560"/>
            <a:ext cx="882144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探究点一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：重点单词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1.loudly 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(1)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</p:txBody>
      </p:sp>
      <p:pic>
        <p:nvPicPr>
          <p:cNvPr id="228" name="图片 5" descr="office6\wpsassist\cache\A000220150322B94PPIC"/>
          <p:cNvPicPr/>
          <p:nvPr/>
        </p:nvPicPr>
        <p:blipFill>
          <a:blip r:embed="rId4"/>
          <a:stretch/>
        </p:blipFill>
        <p:spPr>
          <a:xfrm>
            <a:off x="6443640" y="4653000"/>
            <a:ext cx="2595600" cy="1687320"/>
          </a:xfrm>
          <a:prstGeom prst="rect">
            <a:avLst/>
          </a:prstGeom>
          <a:ln w="0">
            <a:noFill/>
          </a:ln>
        </p:spPr>
      </p:pic>
      <p:sp>
        <p:nvSpPr>
          <p:cNvPr id="229" name="云形标注 6"/>
          <p:cNvSpPr/>
          <p:nvPr/>
        </p:nvSpPr>
        <p:spPr>
          <a:xfrm>
            <a:off x="1908000" y="2349360"/>
            <a:ext cx="7061400" cy="2373480"/>
          </a:xfrm>
          <a:prstGeom prst="cloudCallout">
            <a:avLst>
              <a:gd name="adj1" fmla="val 23351"/>
              <a:gd name="adj2" fmla="val 55324"/>
            </a:avLst>
          </a:pr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Could you speak more loudly</a:t>
            </a: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05920" y="340920"/>
            <a:ext cx="8906040" cy="60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2)He shut the door with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a loud slam.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pic>
        <p:nvPicPr>
          <p:cNvPr id="231" name="图片 5" descr="Juzi_20160122195818009"/>
          <p:cNvPicPr/>
          <p:nvPr/>
        </p:nvPicPr>
        <p:blipFill>
          <a:blip r:embed="rId3"/>
          <a:stretch/>
        </p:blipFill>
        <p:spPr>
          <a:xfrm>
            <a:off x="2124000" y="3068640"/>
            <a:ext cx="5988240" cy="3301920"/>
          </a:xfrm>
          <a:prstGeom prst="rect">
            <a:avLst/>
          </a:prstGeom>
          <a:ln w="0">
            <a:noFill/>
          </a:ln>
        </p:spPr>
      </p:pic>
      <p:sp>
        <p:nvSpPr>
          <p:cNvPr id="232" name="右弧形箭头 6"/>
          <p:cNvSpPr/>
          <p:nvPr/>
        </p:nvSpPr>
        <p:spPr>
          <a:xfrm>
            <a:off x="8101080" y="2422440"/>
            <a:ext cx="936720" cy="2400480"/>
          </a:xfrm>
          <a:custGeom>
            <a:avLst/>
            <a:gdLst>
              <a:gd name="textAreaLeft" fmla="*/ 125280 w 936720"/>
              <a:gd name="textAreaRight" fmla="*/ 811440 w 936720"/>
              <a:gd name="textAreaTop" fmla="*/ 512280 h 2400480"/>
              <a:gd name="textAreaBottom" fmla="*/ 1771200 h 24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0" stAng="-5400000" swAng="5400000"/>
                <a:lnTo>
                  <a:pt x="21600" y="11328"/>
                </a:lnTo>
                <a:arcTo wR="21600" hR="9220" stAng="0" swAng="3529755"/>
                <a:lnTo>
                  <a:pt x="5400" y="21307"/>
                </a:lnTo>
                <a:lnTo>
                  <a:pt x="0" y="19493"/>
                </a:lnTo>
                <a:lnTo>
                  <a:pt x="5400" y="17093"/>
                </a:lnTo>
                <a:lnTo>
                  <a:pt x="5400" y="18146"/>
                </a:lnTo>
                <a:arcTo wR="21600" hR="9220" stAng="3529755" swAng="-3361034"/>
                <a:lnTo>
                  <a:pt x="21458" y="10274"/>
                </a:lnTo>
                <a:arcTo wR="21600" hR="9220" stAng="-168721" swAng="-5231279"/>
                <a:close/>
              </a:path>
              <a:path fill="darkenLess" w="21600" h="21600">
                <a:moveTo>
                  <a:pt x="0" y="0"/>
                </a:moveTo>
                <a:arcTo wR="21600" hR="9220" stAng="-5400000" swAng="5400000"/>
                <a:lnTo>
                  <a:pt x="21600" y="11328"/>
                </a:lnTo>
                <a:arcTo wR="21600" hR="9220" stAng="0" swAng="-168721"/>
                <a:lnTo>
                  <a:pt x="21458" y="10274"/>
                </a:lnTo>
                <a:arcTo wR="21600" hR="9220" stAng="-168721" swAng="-5231279"/>
                <a:close/>
              </a:path>
            </a:pathLst>
          </a:cu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17080" y="236160"/>
            <a:ext cx="8690040" cy="62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思考</a:t>
            </a:r>
            <a:r>
              <a:rPr b="0" lang="zh-CN" sz="1800" spc="-1" strike="noStrike">
                <a:solidFill>
                  <a:srgbClr val="8c8e2e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ts val="576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分析例句，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loudly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在句子中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ts val="576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为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词，意为：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，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ts val="576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其比较极为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；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ts val="576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loud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为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词，意为：     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2060"/>
                </a:solidFill>
                <a:uFillTx/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34" name="文本框 6"/>
          <p:cNvSpPr/>
          <p:nvPr/>
        </p:nvSpPr>
        <p:spPr>
          <a:xfrm>
            <a:off x="2246760" y="2133720"/>
            <a:ext cx="546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副</a:t>
            </a:r>
            <a:endParaRPr b="0" lang="en-US" sz="4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5" name="文本框 7"/>
          <p:cNvSpPr/>
          <p:nvPr/>
        </p:nvSpPr>
        <p:spPr>
          <a:xfrm>
            <a:off x="6502320" y="2205000"/>
            <a:ext cx="1422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大声地 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6" name="文本框 8"/>
          <p:cNvSpPr/>
          <p:nvPr/>
        </p:nvSpPr>
        <p:spPr>
          <a:xfrm>
            <a:off x="4141800" y="3068640"/>
            <a:ext cx="3902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微软雅黑"/>
              </a:rPr>
              <a:t>more loudly </a:t>
            </a:r>
            <a:r>
              <a:rPr b="0" lang="en-US" sz="1400" spc="-1" strike="noStrike">
                <a:solidFill>
                  <a:srgbClr val="3d3f41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7" name="文本框 9"/>
          <p:cNvSpPr/>
          <p:nvPr/>
        </p:nvSpPr>
        <p:spPr>
          <a:xfrm>
            <a:off x="3572280" y="4149720"/>
            <a:ext cx="8514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形容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8" name="文本框 10"/>
          <p:cNvSpPr/>
          <p:nvPr/>
        </p:nvSpPr>
        <p:spPr>
          <a:xfrm>
            <a:off x="2171160" y="5156280"/>
            <a:ext cx="11865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大声的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5600" y="139680"/>
            <a:ext cx="874872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2.Canadian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1)Li Ming has a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</a:rPr>
              <a:t>           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friend.</a:t>
            </a:r>
            <a:endParaRPr b="0" lang="en-US" sz="5400" spc="-1" strike="noStrike">
              <a:solidFill>
                <a:srgbClr val="8c8e2e"/>
              </a:solidFill>
              <a:latin typeface="Arial"/>
            </a:endParaRPr>
          </a:p>
        </p:txBody>
      </p:sp>
      <p:sp>
        <p:nvSpPr>
          <p:cNvPr id="240" name="文本框 5"/>
          <p:cNvSpPr/>
          <p:nvPr/>
        </p:nvSpPr>
        <p:spPr>
          <a:xfrm>
            <a:off x="1692360" y="1989000"/>
            <a:ext cx="35989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微软雅黑"/>
              </a:rPr>
              <a:t>Canadian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41" name="图片 6" descr="u=414199304,344111823&amp;fm=21&amp;gp=0[1]"/>
          <p:cNvPicPr/>
          <p:nvPr/>
        </p:nvPicPr>
        <p:blipFill>
          <a:blip r:embed="rId4"/>
          <a:stretch/>
        </p:blipFill>
        <p:spPr>
          <a:xfrm>
            <a:off x="1282680" y="3384720"/>
            <a:ext cx="69469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2T12:40:27Z</dcterms:created>
  <dc:creator>lenovo</dc:creator>
  <dc:description/>
  <dc:language>en-US</dc:language>
  <cp:lastModifiedBy>lenovo</cp:lastModifiedBy>
  <dcterms:modified xsi:type="dcterms:W3CDTF">2016-02-15T10:14:05Z</dcterms:modified>
  <cp:revision>3</cp:revision>
  <dc:subject/>
  <dc:title>Lesson25.   A  Phone  Friend	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